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25E-F142-44BB-B354-27829FB7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FE0-3E8C-4CA5-9529-FA50EB33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48121-8694-48C4-BEFA-E964937C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250E9-87F1-4EC5-84A5-F2B8E288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2D07F-00A4-49F9-8F6E-FE9ED31C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23EC1-F7D8-47BA-B511-DBDD3374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4E8CE-02EF-4495-965F-DD4F2BDF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49EC1-DF9D-4CCA-B4E0-B683A040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1CD88-020D-4E0E-9C74-1E7232AE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CFA0A-63E3-467C-9148-4B644739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CEBB6-E584-4E3B-9DB1-BA08B315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A1B-CC04-4B13-9079-A65FBFD1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1A4-F29C-460C-8493-B1998DCC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9C11-D749-4C44-AD68-B112EB4F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211B-8065-4BB0-8629-8AED0DEC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A433-DE73-40B9-9924-1CD29A95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080A-5BD8-43F9-8551-CE448D68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53A6-4952-4572-8428-4E470406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7E5F-A26D-4286-BA3D-AEF5B7EB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BE65-4F14-45A8-947E-72B97690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6F0-E285-4EBA-B33E-0BE7853C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1A1F-221E-4E3E-8EB0-4AE53170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2560-8E26-4B43-92B1-90223376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311F-6916-4373-ACB3-47DA7194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2F35-D764-4813-B7C5-16D3DF6B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6DD0-A24B-4D52-AD6E-3F1C23B2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7CA22-F5FF-43E9-A3A2-E0EE868D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EF0BC-B845-411B-965A-9BE6DA61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4027-A13C-496A-B4FF-BFB82677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B37B-25EE-4A72-B861-C72D6737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EBEFA-E10A-4961-95A4-C9DAC67A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443-40C7-4B2F-A6BB-26872FB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2401F-F000-435A-A01F-56623E2D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A0CD-C06F-4040-AF24-C3B03EE5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CEC1-FF43-4868-8E32-53192484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EE97-9504-42A8-A198-174A687F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38F6-BAD2-4935-8DC9-43EFDF21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6C25-0D2A-4696-8E6E-9ABB5E8A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B1CA6-E5B1-4010-AB49-0B36D091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2C67-2719-4805-B8DB-15B43CC2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34CC2-F2F3-4C1E-945A-C69ECD0E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AA72-8315-4850-8B58-E88015DF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C91-27BC-4C9C-B198-EBC3C66E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A3C6F-4E8C-4286-B2BB-E0C48611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C237A-C5F4-4CDA-8D38-53489D87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DC053-8647-47E3-AC3C-286392B5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9504-2B18-47A9-8DF9-F66FD0F4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8323F-71EA-4333-9D15-31554904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96DC-E367-4523-901A-BA173BA0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F143D-CE97-4284-84EB-34EAF5AF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64DEA-017F-4B4A-B898-D449A9FE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7078-8E15-4736-9DB5-BCEB2324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C0C71-AD13-4B0A-97C9-100EF5D1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F8F-D170-4FA1-8DBD-A339AED0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79B39-8B95-4E8F-8D29-82678573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77D96-ABBA-4015-BE3D-1471B548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189D6-D5D5-4BC5-8CB5-BF3CE30B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E3C46-215D-4CCA-BE63-5127943B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EC094-286E-4566-A70A-5FAFFEC8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18F14-86B9-44A0-BCC0-8A82E042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6559B-3E09-4A2E-B782-757E4021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80D81-37FA-4B4A-B8C3-31F37E73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D65B0-9DC6-4D5C-82E2-86A0787D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E4811-770D-4130-8AC6-81E21B24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334-7845-49EF-846C-F813F6B8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B12BF-5B9C-4111-B6B8-B08B769B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D5F0B-AE53-43BD-8DB3-CD44081F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92551-5E8A-4BB5-AB86-329E5129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A26DB-F496-4AF2-83A1-37E55649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D024F-0E7D-4834-A6F7-68B90EC8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E215D-3338-45FB-819A-E9B396AB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16A2A-D290-495F-9EFA-AEEEEF27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C4CC3-26C8-45B4-96A8-529779CE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6A32E-7503-49D6-ADBD-9CD1EAD8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371CA-9448-4BC2-95A9-778A9881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2DB-8BC8-45BE-AC35-36467B7C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B9978-F328-410E-85ED-038628F0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24B0C-809D-40D8-8687-E1CF2ABD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025DD-8D25-422E-AA77-1C47CAD0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C55D1-DAC4-433A-B510-143770C3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6A677-439D-45C7-8CB4-1E27F9EC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B2F3C-0823-43CF-8728-D860E1E3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73734-9E07-4351-AE13-29384835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3F3AD-4D5D-42E1-8E94-20458AE6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25787-9C86-4911-8C4B-F2433D24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E6DE1-3AFD-4D4F-B044-FE3F8F27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F4A4-9C04-4E3D-B31D-51EDAE87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B3A0F-3C35-4E17-B889-51536ACF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22985-5F9D-4722-8FC7-AF80514D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A09F0-5F8B-4AD3-A50E-29729529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F706D-702E-417D-BF80-C3A07D0A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9D89-D791-468A-8C65-BC2C396F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9B322-0726-460B-A770-59EAF0AE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936F6-0313-41AC-A5A6-207E9218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7748F-0E13-4950-80D7-53F82A1A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A64B5-12F9-48F7-AF33-95104515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DB149-CD32-415B-97FA-61530395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8C7-9E32-4580-8F2B-06D9E159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FA4BC-356D-4716-82D0-918114AD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17E28-4D12-46C9-8211-4E4FA3E5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1D7BF-CC62-42B5-885E-92A72186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8FD2A-848B-468B-BE9C-FA095C3D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3AE59-6D9B-4B99-8A82-BFE7EE9E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BA706-A0F5-492D-9531-57B24A02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60B8C-0F60-43E7-81A0-5CAA0787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CAE8E-849F-4CF8-BCDC-700E9E72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CB3D7-3003-4B64-9776-8EFB9601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11EDE-7C6A-492B-96C8-D3E1DABA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Click to edit the title text format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8D52-D9AF-444B-B7A3-D967EFB1A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E557-98C2-4071-8CF2-A8B58BA78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D43E-0616-4B5A-B12E-C325B6649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0F6C-E94D-4244-87A5-E9F90425A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D439-B1ED-4B01-A81B-50CAE37D0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98DE-2C83-4087-B7BC-995800E61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021F-6F31-422E-81CB-BBC2E93AE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3B9D-DEEB-4478-8BC3-6C23CBF6B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F395-077D-469A-8FF8-37B4BA488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1.4: Types of Functions and their Rates of Chang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10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Objectives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use constant and linea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slope as a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use non-linea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linear and non-linear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d interpret average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difference quot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Constant Function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ant function is re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b is a constant (fixed)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e graph of a constant func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Linear Function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ar function is re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a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 and b are constant (fixed)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have also have seen this as y=mx+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e graph of a linear func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Slop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= m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y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is also called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lope of this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5562720" y="2209680"/>
          <a:ext cx="3000240" cy="390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2209680"/>
                    <a:ext cx="30002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Linear vs. nonlinear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examples of nonlinear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none of them are straight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295280" y="2209680"/>
          <a:ext cx="1792440" cy="233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209680"/>
                    <a:ext cx="179244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3657600" y="2133720"/>
          <a:ext cx="1909800" cy="24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2133720"/>
                    <a:ext cx="190980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6324480" y="2133720"/>
          <a:ext cx="1792440" cy="23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24480" y="2133720"/>
                    <a:ext cx="17924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Average rate of chang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average rate of change between two point, use the formula for slop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in the two coordinates as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Find the average rate of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4724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verage rate of change between 0 and 4 for each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34120" y="1600200"/>
          <a:ext cx="3489120" cy="454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1600200"/>
                    <a:ext cx="34891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5334120" y="1523880"/>
          <a:ext cx="3489120" cy="454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1523880"/>
                    <a:ext cx="34891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Difference quotient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used to find the average rate of change.  It shows up a lot in calcul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(x+h)-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fference quotien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x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27:46Z</dcterms:created>
  <dc:creator>nuhs</dc:creator>
  <dc:description/>
  <dc:language>en-US</dc:language>
  <cp:lastModifiedBy>nuhs</cp:lastModifiedBy>
  <dcterms:modified xsi:type="dcterms:W3CDTF">2008-01-10T20:20:46Z</dcterms:modified>
  <cp:revision>6</cp:revision>
  <dc:subject/>
  <dc:title>1.4: Types of Functions and their Rates of Change</dc:title>
</cp:coreProperties>
</file>